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C1834C-2C9C-462B-89E1-D0AC3854E6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915726-7044-402A-AF77-2D89D327C2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6A0E8F-32EA-40CC-AF2F-62F1E4240A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F0881C-8384-4C88-8DA4-1F2C05816E9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3E45BB-56D2-49CB-ADB5-6C1C70505EC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A225D-9CAD-4922-8775-9BCFB5E708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527FA9-CA01-43E8-99F7-A2CC067FA0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A5B791-5BBB-4E75-9953-A0EC753FF6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92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43446A-1A3B-4E50-BC92-9A1C836C94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BFCCAA-BFEE-4833-BFCC-1F1ECC52F2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49CEB8-C1FF-4EC8-866A-A41A7B354B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D480CE-DE8D-435B-9BEA-BA27DE1E20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620120" y="6095880"/>
            <a:ext cx="838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0840D-5C22-4E8F-89EE-99BC96444E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3" name="Line 7"/>
          <p:cNvSpPr/>
          <p:nvPr/>
        </p:nvSpPr>
        <p:spPr>
          <a:xfrm>
            <a:off x="533520" y="1447920"/>
            <a:ext cx="82296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99"/>
              </a:solidFill>
              <a:latin typeface="Times New Roman"/>
            </a:endParaRPr>
          </a:p>
        </p:txBody>
      </p:sp>
      <p:pic>
        <p:nvPicPr>
          <p:cNvPr id="4" name="Picture 12" descr="logo-rotunda"/>
          <p:cNvPicPr/>
          <p:nvPr/>
        </p:nvPicPr>
        <p:blipFill>
          <a:blip r:embed="rId2"/>
          <a:stretch/>
        </p:blipFill>
        <p:spPr>
          <a:xfrm>
            <a:off x="685800" y="608652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genda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1523520"/>
            <a:ext cx="82296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SF SDCI Project Review, Oct. 29, 201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9:00-9:20: Overview, MV, UV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9:20-9:50: Details, Zhenyang Liu, UV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9:50-10:00: GUI, Tyler Clinch, UV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0:00-10:10: Traffic isolation, Zhenzhen Yan, UV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0:10-10:30: Bob Russell, UNH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0:30-10:40: Break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0:40-11:00: Tim Carlin, UNH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1:00-11:20: John Dennis, NCA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1:20-12:00: Discussi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83280" indent="-26280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2:00-1:30: Lunch/Break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683280" indent="-26280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4:00–4:30: Diversity activities, Carolyn Vallas, CDE, UV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Slide Number Placeholder 3"/>
          <p:cNvSpPr/>
          <p:nvPr/>
        </p:nvSpPr>
        <p:spPr>
          <a:xfrm>
            <a:off x="7620120" y="609588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E517D-6E2B-48AC-B6EF-268BEE5228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</a:t>
            </a:fld>
            <a:endParaRPr b="1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44" name="TextBox 4"/>
          <p:cNvSpPr/>
          <p:nvPr/>
        </p:nvSpPr>
        <p:spPr>
          <a:xfrm>
            <a:off x="1434960" y="5973840"/>
            <a:ext cx="6858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omic Sans MS"/>
              </a:rPr>
              <a:t>Supported by NSF grants: OCI-1127340,</a:t>
            </a: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ff0000"/>
                </a:solidFill>
                <a:latin typeface="Comic Sans MS"/>
              </a:rPr>
              <a:t>OCI-1127228, OCI-1127341</a:t>
            </a:r>
            <a:endParaRPr b="1" lang="en-US" sz="1400" spc="-1" strike="noStrike">
              <a:solidFill>
                <a:srgbClr val="ffcc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omic Sans MS"/>
              </a:rPr>
              <a:t>Questions on this slide set: Malathi Veeraraghavan, mv5g@virginia.edu</a:t>
            </a:r>
            <a:endParaRPr b="1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Intra-datacenter networking/app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John Dennis has identified interesting topology/routing problem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ith fewer than 1000 cores, application is CPU limited, but with more than 1000 cores, it is network limite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NH and NCAR will run MPI apps and collect dat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VA will analyze and design datacenter networking solution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Slide Number Placeholder 3"/>
          <p:cNvSpPr/>
          <p:nvPr/>
        </p:nvSpPr>
        <p:spPr>
          <a:xfrm>
            <a:off x="7620120" y="609588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DE16D-98B0-4DBD-B275-7CBCDC54F2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Year 1 Accomplishment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304920" y="1523880"/>
            <a:ext cx="8534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Wide-area data movement traffic characterized </a:t>
            </a:r>
            <a:r>
              <a:rPr b="0" lang="en-US" sz="1400" spc="-1" strike="noStrike">
                <a:solidFill>
                  <a:srgbClr val="ff0000"/>
                </a:solidFill>
                <a:latin typeface="Comic Sans MS"/>
              </a:rPr>
              <a:t>(UVA and NCAR)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idFTP logs obtained and analyzed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ogins obtained on NERSC and SLAC data-transfer nodes and experiments conducted for throughput variance studie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ublished an SC paper, and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eveloping GUI for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omic Sans MS"/>
              </a:rPr>
              <a:t>broader impac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Experiments on DOE ANI WAN 100GE and LIMAN testbed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evelop tools for controlled data collection for variance studie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CP behavior on 100 Gbps paths (impact of bit errors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34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mpare RoCE over L2 circuit vs TCP over IP-routed path </a:t>
            </a:r>
            <a:r>
              <a:rPr b="0" lang="en-US" sz="1400" spc="-1" strike="noStrike">
                <a:solidFill>
                  <a:srgbClr val="ff0000"/>
                </a:solidFill>
                <a:latin typeface="Comic Sans MS"/>
              </a:rPr>
              <a:t>(UNH and UVA)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Engineering solutions: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idFTP integrated with RoCE and IDC client  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(UNH and UVA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Datacenter networking: b/g acqd. and prob. identified 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(all </a:t>
            </a:r>
            <a:r>
              <a:rPr b="0" lang="en-US" sz="1600" spc="-1" strike="noStrike">
                <a:solidFill>
                  <a:srgbClr val="ff0000"/>
                </a:solidFill>
                <a:latin typeface="Comic Sans MS"/>
              </a:rPr>
              <a:t>3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Established a wide network of collaborator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Slide Number Placeholder 3"/>
          <p:cNvSpPr/>
          <p:nvPr/>
        </p:nvSpPr>
        <p:spPr>
          <a:xfrm>
            <a:off x="7620120" y="609588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28B3C-4271-4DE0-9F2A-BEB3CA2D05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cknowledgment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533160" y="154944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SF OCI &amp; co-PIs: Kevin Thompson, Bob Russell and John Denni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Snet: Chris Tracy, Brian Tierney, Joe Burrescia, Jon Dugan, Andy Lake, Tareq Saif, and Eric Pouyoul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NL: Ian Foster, Raj Kettimuthu, and Linda Winkler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ERSC: Brent Draney, Jason Hick, Jason Lee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LAC: Yee-Ting Li and Wei Yang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ternet2: Jason Zurawski and Eric Boy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V. Tech: Jeff Crowder, John Nichols, John Laws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CAR: Pete Siemsen, Steve Emmerson, Marla Meeh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oston U: Chuck Von Lichtenberg &amp; David Starobinski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GridFTP data: BNL (Scott Bradley and John Bigrow), NICS (Victor Hazelwood), ORNL (Galen Shipman and Scott Atchley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oCE: Ezra Kissel, IU, D. K. Panda, OSU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IGO FDT: Ashish Mahabal, Caltech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Slide Number Placeholder 3"/>
          <p:cNvSpPr/>
          <p:nvPr/>
        </p:nvSpPr>
        <p:spPr>
          <a:xfrm>
            <a:off x="7620120" y="609588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217E1-F1FD-47D8-B19B-57A79DD19B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Wide-area data movement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5112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Questions we asked (“science” phase)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re science data transfer rates high or still low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s there is significant variance in throughput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spite of increasing rates (which means shorter transfer durations), are transfer sizes large enough to justify VC setup overhead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ethod used to answ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btained GridFTP logs from four sourc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rote R statistical programs to analyze logs (supporting: shell, awk, Javascript, SQL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7620120" y="609588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DD711-39FC-47E7-A526-E91CBAE3FE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54" name="TextBox 1"/>
          <p:cNvSpPr/>
          <p:nvPr/>
        </p:nvSpPr>
        <p:spPr>
          <a:xfrm>
            <a:off x="1676520" y="6137280"/>
            <a:ext cx="5790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“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Scientists discover that which is</a:t>
            </a:r>
            <a:endParaRPr b="1" lang="en-US" sz="2000" spc="-1" strike="noStrike">
              <a:solidFill>
                <a:srgbClr val="ffcc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Engineers create that which never was”</a:t>
            </a:r>
            <a:endParaRPr b="1" lang="en-US" sz="20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Wide-area data movement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6840" y="15112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nswers: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ransfer rate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n 4 analyzed paths, found max rate of 4.3 Gbps and on all 4 paths max rate was 2.5 Gbp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is is a significant fraction of link capacity (10 Gbps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roughput variance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gnificant: coefficient of variation: 30%-75% (4 paths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auses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ransfer parameters (e.g., parallel streams, close and open TCP connections between files, striping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mpetition for server resources by concurrent transfers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indent="-228600">
              <a:spcBef>
                <a:spcPts val="451"/>
              </a:spcBef>
              <a:buClr>
                <a:srgbClr val="ff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not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the network (link util is low, and packet losses rare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7620120" y="609588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47717-7868-48AB-875F-DB420B36C0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58" name="TextBox 1"/>
          <p:cNvSpPr/>
          <p:nvPr/>
        </p:nvSpPr>
        <p:spPr>
          <a:xfrm>
            <a:off x="1676520" y="6137280"/>
            <a:ext cx="5790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“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Scientists discover that which is</a:t>
            </a:r>
            <a:endParaRPr b="1" lang="en-US" sz="2000" spc="-1" strike="noStrike">
              <a:solidFill>
                <a:srgbClr val="ffcc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Engineers create that which never was”</a:t>
            </a:r>
            <a:endParaRPr b="1" lang="en-US" sz="20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nswer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spite of increasing rates (which means shorter transfer durations), are transfer sizes large enough to justify VC setup overhead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74304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es, significant fraction of transfers occur in sessions whose durations are longer than 10 times VC setup dela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74304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sed hypothetical third-quartile transfer rate to compute duration rather than using actual durations to make the above determina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Slide Number Placeholder 3"/>
          <p:cNvSpPr/>
          <p:nvPr/>
        </p:nvSpPr>
        <p:spPr>
          <a:xfrm>
            <a:off x="7620120" y="609588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D6B40-C99D-4BCF-88DA-A85D2B4432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periments on DOE ANI WAN 100G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nd LIMAN testbed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685440" y="15238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everaged our ESnet DOE project relationship to gain login access to ANI 100 GbE WAN and Long Island MAN testbed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xperiments run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43080" indent="-34308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eveloped tools on LIMAN testbed for controlled data collection for variance studies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mpact of competition for CPU and packet losse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00"/>
              </a:spcBef>
              <a:buClr>
                <a:srgbClr val="ff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omic Sans MS"/>
              </a:rPr>
              <a:t>Deployed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these tools on production NERSC and SLAC GridFTP servers and data collected for controlled transfers – analysis ongoing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343080" indent="-34308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rved whole 100 GE testbed (NERSC and ANL) for weekend and ran continuous GridFTP/TCP transfer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o losses! TCP throughput stayed close to </a:t>
            </a:r>
            <a:r>
              <a:rPr b="0" lang="en-US" sz="1600" spc="-1" strike="noStrike">
                <a:solidFill>
                  <a:srgbClr val="ff0000"/>
                </a:solidFill>
                <a:latin typeface="Comic Sans MS"/>
              </a:rPr>
              <a:t>96 Gbp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Why? Bit errors corrected by FEC (thanks to Chris Tracy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343080" indent="-34308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oCE over L2 circuit vs TCP over IP-routed path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Results in UNH presentation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Slide Number Placeholder 3"/>
          <p:cNvSpPr/>
          <p:nvPr/>
        </p:nvSpPr>
        <p:spPr>
          <a:xfrm>
            <a:off x="7620120" y="609588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BDAAC-EDC4-41AC-B649-7BF9A374F7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NI 100G Testbed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Slide Number Placeholder 3"/>
          <p:cNvSpPr/>
          <p:nvPr/>
        </p:nvSpPr>
        <p:spPr>
          <a:xfrm>
            <a:off x="7620120" y="609588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8C575-697E-4C85-A61C-CAD05F2DD2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612720" y="1096920"/>
            <a:ext cx="7724880" cy="563868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4"/>
          <p:cNvSpPr/>
          <p:nvPr/>
        </p:nvSpPr>
        <p:spPr>
          <a:xfrm rot="16200000">
            <a:off x="6188040" y="3311640"/>
            <a:ext cx="4788000" cy="5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Gill Sans"/>
              </a:rPr>
              <a:t>Brian Tierney DOE PI meeting, March 1-2, 2012</a:t>
            </a:r>
            <a:endParaRPr b="1" lang="en-US" sz="16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Engineering solution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38088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ving forward with GridFTP+RoCE+IDC client integra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esting on DYNES – Internet ION planne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VA proposal for DYNES approved: awaiting deliver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mote logins obtained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RGP (regional – so no FDT server, but IDC controller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oston University (CNS project collaboration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quests made: Julio Ibarra, Martin Swan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lan is to give each other logins for wide-area test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everaging collaboration with ESnet in DOE projec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esting IDC Java client with ANI testbed OSCARS IDC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Slide Number Placeholder 3"/>
          <p:cNvSpPr/>
          <p:nvPr/>
        </p:nvSpPr>
        <p:spPr>
          <a:xfrm>
            <a:off x="7620120" y="609588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80F8E-DF63-4B25-8FB2-E9299B95C0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72" name="TextBox 1"/>
          <p:cNvSpPr/>
          <p:nvPr/>
        </p:nvSpPr>
        <p:spPr>
          <a:xfrm>
            <a:off x="2438280" y="6248520"/>
            <a:ext cx="449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[Needs further discussion]</a:t>
            </a:r>
            <a:endParaRPr b="1" lang="en-US" sz="24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1T22:50:21Z</dcterms:created>
  <dc:creator>Malathi Veeraraghavan</dc:creator>
  <dc:description/>
  <dc:language>en-US</dc:language>
  <cp:lastModifiedBy>Malathi Veeraraghavan</cp:lastModifiedBy>
  <cp:lastPrinted>2012-03-26T18:40:04Z</cp:lastPrinted>
  <dcterms:modified xsi:type="dcterms:W3CDTF">2012-10-29T03:15:18Z</dcterms:modified>
  <cp:revision>1589</cp:revision>
  <dc:subject/>
  <dc:title>PowerPoint Presentation</dc:title>
</cp:coreProperties>
</file>